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6BE-4150-457A-9E9A-CB3129C4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527-3309-4520-93FC-0CC31E9E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60C-6DAD-42AC-B79D-4F515F0B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6B7-DE3A-4312-A1EE-FEEF3B18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8D2-6687-4CF2-BD0A-B57D775A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FEF-EF70-459F-BB2D-1F8D7C1E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D9C-0F49-49C4-84FF-E4E67ED6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9B6-13C5-4BBE-A152-1F879F56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F15-AE6D-4BC0-A64D-E0D66D1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4DC-8773-44F3-92E1-4EEA9B9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B79-3498-4F1E-B3DF-A331E18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33F-CD34-4F98-8BCA-CC5708A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340B1-8D81-43FE-80CD-F628746AE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68200"/>
            <a:ext cx="9070920" cy="61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rait of Daniel Shays and Job Shattuck, two of the leaders of the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8480" y="182880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the rebellion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786 to early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ful attack on the Springfield Armory was on January 25,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i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45943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y did Shays and other farmers reb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volutionary War, Massachusetts raised property taxes to pay off debt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inflation made the paper money issued by the state nearly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could not pay the taxes were put in debtors' prison and had their land se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fications for voting were raised, so that you had to own lan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methods of rebellion did they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 against tax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courthouses so that debt hearings could no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into jails to let out indebte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seize weapons from the state armory, with the intention of then attacking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0760"/>
            <a:ext cx="9118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ow did political and business leaders respond to Shays’ Rebelli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cared that this rebellion could lead to another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state legislature (at Sam Adams urging) passed new stric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t Act:  banned public meetings at which any mention of rebellion was being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all speech critical of the gov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beus Cor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llowed for people to be put in jail without charges or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business leaders from Boston raised a militia to go and put down the rebe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changes to U.S. government  did Shays’ Rebellion help bring abou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0574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hays' Rebellion was quickly put down, it scared national leaders like 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lt that there should be a stronger central government to deal with future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tronger central government would prevent states (like Mass.) from enacting bad laws like those Shays had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after 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al Convention called in Philadelphia in 1787 to re-work the Articles of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quickly decide to scrap the Articles and create a whole new plan of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ke John Adams, James Madison, and Alexander Hamilton) want a much stronger central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posed this idea, out of fear that a stronger central gov't could lead to tyranny (like what they had just fought against in the Revolutionary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uch debate, the Federalists basically get thei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itution (the new plan of gov't) gives the central, or Federal, government much more power than the Articles of Confederation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enough of the Anti-Federalists to approve the Constitution, the Bill of Rights is added as a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ll of Rights protects individual rights and freedoms from an abusive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07:40Z</dcterms:created>
  <dc:creator/>
  <dc:description/>
  <dc:language>en-US</dc:language>
  <cp:lastModifiedBy/>
  <cp:revision>1</cp:revision>
  <dc:subject/>
  <dc:title/>
</cp:coreProperties>
</file>